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EFAC3D7E-EE37-4D38-8AC0-1127FE0929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i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smaspäeval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isipäeval: erinevad teemad / kursuste ülevaated / õppejõud, kohati eksamil kajastatud, kohati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t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veapunkti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oovitavad regulaar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www.engadget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9-09-02T08:04:06Z</dcterms:modified>
  <cp:revision>34</cp:revision>
  <dc:subject/>
  <dc:title> </dc:title>
</cp:coreProperties>
</file>